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F99-EB93-4844-A51A-54349305E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4663-B055-4352-A545-722A0F99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940E-65B7-4CC9-A6AA-E5E3D031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A64F-DE6E-4270-B6D9-78DB3CFC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5AF9-A6C2-4DD6-AE7A-41B962E8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39CE9-0A01-4869-B00F-AF20C17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F70FC-1B8B-4177-B017-06045A8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D01D0-7D9D-4C8A-AB44-F4335B6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627D3-1799-4C4A-AAD4-BAC54B0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ACE57-43F6-405E-B878-0638D943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46941-319C-4B31-B6EC-E2B1B15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BE9E8-104C-445C-807C-992C0C2C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AC220-4E06-4E68-808A-11EEC4C0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CC770-2FCE-4ECE-989A-53777010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6FFB6-01FA-4440-80D6-F45DB1B7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8AAE-1487-430D-A822-54F57843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0D7E8-AC6D-43A7-B0DA-6C648DF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FF7C1-0AEA-4D51-98B4-CF92C6B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6B2A5-7A52-4455-A3C5-1FA5EB10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76B69-6B9B-45D1-82E7-E849EFB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63963-2A4F-4FA2-AE4E-A3AC2161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98394-5976-48AB-9E7B-6D7C46B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FAF00-E68C-4724-BA69-AE7F3D68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EA07A-43AE-4FE0-AFD5-C46BA95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225F2-3940-4256-9411-EBB84931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95825-F4B1-4DB8-A5F6-1AB94059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82F9-C09D-4BBB-B85C-72B61A99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4716A-DFA1-443E-BBAA-F002EB6A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C8EBD-30EE-4233-8F95-88F5560C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4249F1-8A69-4D85-B084-EF3CAF7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D303F2-718E-456B-A85C-4638144E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DAD5A7-7856-4911-A350-8679FBF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26EF5D-4430-42BF-84FE-A15C7A0A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A10509-A92E-4BCE-9B97-1954E4B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41CCCE-E854-421E-9F00-CE2F04D3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DBA0BB-02A1-4872-8434-493A111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745895-8DF6-494A-B4A9-30D2B51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0367-832D-4D63-BA41-D5911FF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3F4FB5-C81B-4EA2-BA34-F573521E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821B96-DB4D-4612-B303-7B703F7C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5708D6-26F3-4766-A926-7CE0EB82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96906-A20C-4D14-829C-6807BB5E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2DE17-49EC-44B2-9700-70959EE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5882F-2B25-4A62-8D4D-10F5CEB1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7B02F-6735-496C-B999-5A5390D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1D22C-43A1-403E-9B80-A2A2DD6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90B7F-AE46-46AC-B3B4-19D6228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D6759-1E2D-4A2E-A4A0-0FED157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C9C-7362-47BE-9941-FD23D2E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19162-FB14-4FF1-814D-68C78F0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2E5AF-978A-4E4A-97AA-A940B68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BB79A-135A-4960-91A2-2FE2CB0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031D5-C8B4-4E68-8C05-7DB23CF1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B62DA-CF04-428C-B0B0-BAD613CB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262A9C-2D0C-4AC4-A22F-C4F758EA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252ADC-CB21-48DE-915C-B7EDA023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F0E3D7-09AE-494D-86D3-3C031BFB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AC4111-195A-45A7-BD9A-476E48C7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B812B3-4482-444B-BD20-4464260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06B7-A39A-49E0-A24E-A90ACB08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179844-2912-41A6-BEBE-625BFFB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B036DA-2B3F-4128-9313-654C91A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5196A2-CE20-49A9-AEF8-C39675E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5375F8-7A26-4375-9C04-6F3372C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13BF6A-5CDA-44CB-AA71-17C236EB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66F012-6A2E-4C57-84E6-BB01721D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A63F5A-05AC-406D-BA57-A2538BA1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E2345F-FC44-41BE-8E58-E42DF000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212C2E-BCB7-408F-8F3F-4FEDE839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C01938-C5FB-40DE-84D0-3E641B26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D3A0-5987-4B60-8BE1-4810304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13FD32-2D7A-4831-A266-69C2BE1C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7157D3-01DD-43D2-B37C-7DE5A58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552D0F-403C-431B-9BD5-BD5F4E3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C00013-A8D7-491E-B4D5-71F48DE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B270E2-1B54-4FD9-B432-FD38191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9EC07A-C2EA-4609-A46D-5303533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D11614-CC16-414A-82B8-503FCD6F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2DA37F-DF24-437E-A291-9F53A4FD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FAEDBA-276C-4ED4-8976-7A149B38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A03D66-2C65-4688-96B3-E107567E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9F34-6989-4A83-B10D-0355438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4E666D-D0B8-4A1D-AF7E-4ECD0467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A5800A-9A01-459C-BC6D-921DC96A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F1E88D-F75F-4760-997F-1E01E9C1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ABC5B3-D933-452E-A70E-59C489CF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9F35C2-B7D1-41D1-A984-A93DC879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BC4CBF-615B-4B7F-83FA-B5C358C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6FFD7A-DEE3-44DC-ADB8-4132B70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530229-CF74-432A-9D30-A538AD9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0D2494-FC53-4A25-A034-AF334D4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B190C4-F1B4-4E87-950E-0DBAAF61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8EA-C049-4A91-AC3E-D44F30D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4AA043-B47B-4CDC-850E-628F86A5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C88182-6B61-43C5-90DC-1EA87F76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C17886-B4FD-4D0C-B330-2886D30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885D7C-8A53-48AF-87F3-B033852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518F88-34D4-476A-9FF0-9C474D21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A9E8E2-8977-4B86-BB78-F60ED627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858F18-C95F-4D93-8A0B-F0DE5AE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CD4F3F-E9BE-4AC4-9D8C-FE943B3E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0FBA60-6395-4B72-B1D8-71612A1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FC2F63-5F41-47D2-AF33-9B2BB5AA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0ED-C790-4E8A-A09B-6A10262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A0830D-D561-4902-8F30-FB9B35B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11C429-47D9-4C7A-8326-4B27BF4E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06BF94-EA80-4ED8-AD59-4CEC3434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A76912-01F5-4470-AFA5-C99B83B4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A2197F-DC9B-4676-A64F-E10E8E1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91848B-7D75-4D3B-9502-96D710F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5ABB61-5F77-442F-B4B0-F6445BA4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638652-973C-4DC5-8856-A08B8D5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9D4877-2B76-4A30-80C9-7CD5D7E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A5C31C-AF98-4AE6-AEF8-CC2D22F6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7DAA-FA9E-40C6-9FED-CD90738A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4C0-2120-42B0-AECB-101F67C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AB42C4-8643-4296-8756-5497F35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45F970-5E50-4DDD-90CD-B2F6E7E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A72CAD-527A-4168-929D-477D134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2F56FC-68E3-45E7-8DA1-E76377A0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DF7C32-39BF-499B-BA40-8534B0BC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FF8B2D-8E68-4A67-8F04-EB1E7660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8AFF1C-7CDD-4AA0-8FB4-62E1425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17CBE7F-884B-438A-9BCD-ECFDFB28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4DC53D-1330-4E30-987C-78501257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501E3C-CA56-4ED4-A4FE-85D90408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AC8B-DC74-4F35-8C95-B0BC284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E19E26-794F-456C-A097-9AEDFB23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50D3FC-75DD-4BB6-8D80-E1E889A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640AB3-B6EE-49DE-8581-118BA7C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862BB9-EF68-4616-BA34-FBF444C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F8DB17-ACCA-4DA4-B651-B975119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53F4EB-E51C-4BED-92EE-24779F12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B93B9F-F1AB-4F14-A908-3E31933C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0606A0-C486-4894-A66B-73F618FF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26D0C5-6F0A-48C8-86F5-6F928D0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B1CD44-8830-49DD-A97B-E536875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8227-EE15-48BB-82E8-C7E24DE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BEB45D-60AD-4FA4-AE75-E73868E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E01FE1-CB2C-47FB-A45E-BF13B6E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3D7DB7-1562-4630-BECE-ACC4717D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AD42CE-0105-497B-89B3-806032A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462D33-21DA-458C-9384-CBAEE9A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B20C24-724A-4D01-9EEF-6F830D7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077B7D-BE7C-4279-91A4-16F7E4D0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BCD869-EBB1-4068-BDFE-1737B1B4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3C556F-A9AC-46F1-BF21-072FE6D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2B8101-0815-45CC-BB91-D055EAB4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B543-742D-48D6-9149-592FBD8D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BEA9FD-9E3D-4B74-B96D-CC04AD7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5F46F3-A7C8-4953-88A4-C5A82CB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289992-A743-4D12-9D95-1B46EEE9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928C2E-282D-4C85-BBFB-CCD104A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4B5F44-E314-4CD9-896C-47730A53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41E212-DB82-4A79-871D-1F2BE2D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205BD9-0496-44D8-9DB5-CF7D843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E92947-BF0C-4AC1-B636-83928A0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348A77-D451-4173-BCEE-6134CD7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158E53-60E8-4CE6-9B7A-4CD52B92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60B-E096-461D-BFAF-B024CF7D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10CF41-6B02-487C-AFEC-F47BE34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5765AC-7F4B-446E-83AA-88957BC2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150921-7B11-456B-8332-7094BDDC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20BB93-55B7-4CD5-A982-0B0565E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464D9F-8292-49CD-BB14-A5BABA37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0A144A1-7E2D-4129-BDF0-7AFA7B41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6CA7E7-6261-4A1B-9D90-EF542FE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DE6748-3925-4218-980B-CA0E31E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A11930-C385-4ECF-ADBD-BF05358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04D4F1-7C35-40C8-B95E-D6A99E0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54C04-C336-4CA4-BB12-94911E1F437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A85114-1B99-44EB-BE66-C22C678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3772FC-2DEE-4832-BBCE-82CD985C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637B9C-FAE2-4138-90B4-8DDCDA58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098BF4-BA9B-404F-93E2-BB385EF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9EABAF-00FB-40DF-862A-8AFF5EBE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67C98E-2F2C-4D08-AE1B-87B38C9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C59EE8-56E3-4A70-B875-78457E54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E57306-5996-4AFE-9231-F4491C15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C2801F-5BD3-411B-A6A1-0B64A299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6F9268-0463-432A-830F-094DC4A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AB39B-F768-4AE6-BE42-E462FCBBD06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28245B-0B62-4855-BA54-D6D9628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9EFF01-473C-47F0-8CCE-E78CA3F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783F9A-BE72-4432-AFEE-99157EAD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009D6D-A81B-41B0-90C8-58253100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9D3C71-2A6E-4B6E-BCD2-23199FF0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92917E-2761-487C-AE9C-BD3AF536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C87F66-C72C-4A5A-822E-70223B8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B45546C-43A2-436B-8005-925B356C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B41D01-8C39-47F6-A9AF-8EA0239D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317DED-D9EB-42C8-9CF9-DA993C24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E2163-D497-41E4-81F0-15BE9B4AB20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E05E13-2916-4BE8-81A1-49557F8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E02C87-8D37-4DDF-BE74-BEA611E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51A992-D9B7-45AB-B8DF-12739CA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1B90F2-00A6-401A-B95B-BE8AEE5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8872EA-9E69-466E-9670-F5C87800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E5A648-84ED-4F39-B129-82EE59C6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DDF8BF-10B2-46E6-B0B1-387AF845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950047-6880-472B-85EF-E9C75D5B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F6F7EA-69F8-4E3F-8435-B90AE357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F09069-4BF1-49FB-8E06-6908CDD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DCA66-8D5D-43FA-A47B-6E55CEB7EE4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6C51F6-F14C-453D-9AB4-87CF522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DA2883-959A-4F61-BAAB-3E0987A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EC24EC-DAF1-4D58-9988-861C5F4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03FB32-B09F-4775-9507-9E7C629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994DA7-2947-4418-86FD-0D85EB3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72140E-B415-4846-A5AA-FFA49C1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94B509-3300-4137-AA86-6B5BE03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2E1F09-4A37-4FB6-A309-BF435D3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58C876-75E7-424F-9A3E-16AF58F9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1DCB01-C6E7-4286-8FB3-5875EF2BEA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577DB-2C83-4605-B7DC-2AFD1FF0E9B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4AFE79-41AA-4586-AB68-914E42DDCB5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6221BD-7CCB-4C06-ABB7-98D5F9F0C97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76025B-E4E1-4EDF-8F1E-DC97E6505AA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742AA8-CB93-4FBB-B173-3604B7F4860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812B5F-0C31-405E-A118-BD7BB352030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C2022-F585-446B-8CE2-9A933E5222B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27CFF-5B16-4C7E-8F7C-7F751B8D2AB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E2080-6B85-4752-A73E-E6D6A7867D5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4B9C0-47F5-47B8-A514-0D112D88EC0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CE354-34C3-46A1-97EA-F9715A7A8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E076-D6CC-4815-B992-031D5A2F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1B00A-2EC1-473D-8246-0C34E5280F6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C9708B-654E-49FB-87F2-77E70B8AFD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8E99C-CB76-45A3-84C0-B35C2F28B5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DFBC7-E1E1-4F8B-9F02-FEC743F868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77338-5FA8-4B92-A08A-95E0CE7213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A17DB-2B94-4C91-86D6-1AE594B321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D86BD-D789-4AA4-8117-00C9DE68E6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AEB3C-D956-475B-B681-6208948091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06B4D-E2B5-40AD-8EBD-7F7D09FE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58E0D-6F72-408F-9698-2ADC997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AE4A9-6C97-4504-8929-9A39C66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006F-8BD5-4D72-A029-066FF37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11B43-5B15-4E31-A37B-BF9149FB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F2879-252C-4B5A-BBC6-F52C0327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E51A3-32C2-43AE-8361-6FC30B0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A027F-6FA1-47C0-9159-76C0C0C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507F1-9708-4528-834B-0C7126D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11253-3E81-4C89-8E46-5F1F782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ACF8F-6271-4A96-B694-E5C474DA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EA52D-97E5-4674-A291-E5A50091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C31ED-B5DA-4CFA-A680-82BFA19D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FF284-F45C-4E2E-8BF1-A43F03E0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D48D-E58B-40B2-BC7A-483D40C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0C0F2-1A19-43AD-B884-5F9BFB9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B225C-4DAA-4EE3-A16B-AF703CD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40527-96B7-4DDE-91E1-95F354F0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6A866-BD99-4C8A-B830-4209F70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FCEC5-1532-4FC2-B65B-DBDEEDC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71CDB-45B9-4C65-9834-1193FE0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DFF35-8BAF-4864-BC52-D2999DA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8AB06-9E31-483E-B7B2-C43D26A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EA1C7-D004-4095-8FBD-0D356C7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FD826-FAD9-4A19-AEBE-9601A3B6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20AA-5444-4E3F-BEF9-A449DCA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3C3752-BF31-4E85-90FC-DB099D85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49895-5F9C-4D90-8B72-6F22DD22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C08DE-377C-40BD-96B6-16935D5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7AD37-34C1-42E4-812D-A957451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F121C-61CF-4FCF-81EA-9E6F266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91F5D-0E58-43C8-B43F-C6E7247C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A79F3-A5B9-423F-9714-E59F1223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F1DE3-2444-4F7B-96FA-ECB9008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1E275-7844-4B5A-B896-38270CC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D421A-8482-4A31-8A7A-CE9F552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527A-7081-41E5-B5A8-A3FDB88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9FEF1-D2FB-4FFD-A7A5-11AB2DE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43037-B055-4BD5-91EC-A713F344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173B9A-B1B1-4634-A3DB-D4B43CCA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BC821D-4B5C-42FA-BE4C-32F963DA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738AAB-BE43-4301-8B0D-7E7E808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093AF-F58B-455B-8AF3-C0343C89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8576C-BC83-4392-BFA4-5140621B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057AC3-357C-47E5-A0BD-6737048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D2B581-42F4-41D3-8D6D-AE87581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D61F6-1DE6-477B-92E6-7A0FABF7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BFAD-8F40-42F4-B1F6-DC00FC4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E90121-8B37-48D1-9B7B-7EA4191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49B4E-C3FC-4C3D-9320-7993756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A9038-66A9-4DD4-9033-6272DC52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C4724-3584-40CA-9CE9-F3D59BDE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D9C43-6B71-41BF-AE51-59CBF87C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7E1682-FD43-43FA-BBBF-A5418357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9A5F6-AF34-43B4-BFC7-C8D82B5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A47EC-B05D-4975-89DF-352130D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15FCE7-AD8A-4FDF-BC2A-477B7B21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3D19F-56FE-4D77-9DF9-FFE0097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0E3A-C6A7-4BD2-90E8-5E110A7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FD3ED-BCFE-4CA5-982D-76F15BA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A951A9-D889-4E35-81D4-D543AFE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03385-1A79-4237-8A70-E6E53E7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65811-7E3E-4982-BDEA-0EA4C97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169CE9-65C5-4719-9E94-AE581D8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C8FB7-4313-4994-8BCD-9D5D2AF0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D79249-00F3-4A40-860B-5813780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0D174-1E41-4CA7-8A93-5916E645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BC6BC-A2E8-422A-8DB7-EF65301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0E2F4-43C4-4C5E-AD20-4F12B797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601-2EDF-4D96-8958-DCC668648C7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2B1D-DE5D-412A-A634-61AA25FFC05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8F9-2A54-4B32-B521-E691353F687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7C0-1D30-4E85-B804-0B78D03C9DA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EB1-76A5-40C2-B780-225FA50D558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6B0-132B-4033-9A74-8675B5C13F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B8DC-808F-44F3-883E-1855B7715CD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57A-AA95-4CF9-B0E5-105C5B3AC06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8B8-F450-4123-AFC8-D0EABEFF05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3FF-B994-4E9C-8AF1-9859352BD47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EC3-1340-47C9-9062-B59095DBE5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A83-D021-4A4B-B07A-9BA615F9674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2D07-72D3-433F-9B3B-F488359F8E9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F3B-C982-4C6D-89D6-CBA62C5B8C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3B9-2FD8-4E92-83D2-4BA32806922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161C-2F8C-47D5-B095-BF4A670D038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731-50BE-48C1-B3BE-7740BC6D03E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958D-7C3A-45D9-8DCD-5715CF8D08A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7BDC-E573-41EC-91CE-B9D5EB2CCDF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E78-852C-45BD-9313-4CEF0C21CA4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F2E5-B375-42A9-9836-2269F382414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931-0903-4C93-9BCD-137CEA1377B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24C-1EF3-4A82-8945-10DD39847CF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C45C-A84C-4A99-B504-D5DDC918C56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371-02D0-4876-8B76-BF93995CAF8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FF71-DDEF-44C0-9AE7-779BC026E6F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Si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commerce and online auct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curity issues with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Private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y services from existing porta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lusion from existing marke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s of margins due to product and price transpar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nel conflicts as online marketplaces overlap with and edge out traditional channels and distribu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for target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of potential mark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gins versus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share versus market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C057-4CDC-4965-9899-848D90159D4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r>
              <a:rPr b="1" lang="en-IN" sz="28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sk of arbitr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quid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efine Value Bounda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peed of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ce purch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sitio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1D0-5786-488D-9ED4-6BD7857BE33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and online auctions can be successful if following points are considered while designing business mode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adiness of the product and mark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isk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91C-2FF8-4735-9424-385D4DB035C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ortance of online auction in the indust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commerce in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F64-8DEC-4926-B344-2732FB625E8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ing options for new age fir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auction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and selling articles through social network sites,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-to-business exchan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netration of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y-to-day customer interactions through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lance of power from the seller to th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pr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ch more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tch the way customers want to bu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300"/>
            </a:b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9AE3-56B1-41A3-BBCD-BE1DEED5609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s knowledge repositor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olum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Knowledge about new and value added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794-6D70-4033-8381-DE9E1B4CED4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online mark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act of online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ft in consumer pre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pping and buying simp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-effecti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ing different features of available products, pricing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yers and sellers into one place and help exchange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chnology supports more flexible and efficient pri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to set the limits for products and to define price for buy and sell activ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late into fairer price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ed transaction cost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rtened cycle times,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ed information f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9846-17D0-48A8-9033-FC2CD578D43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Types of online marketing and ecommerc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trategic managemen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odities secondary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al spe­cial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ve different types of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Services: support during the awareness and demand generation phases of the selling proce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uctions: aggregating demand and matching buyers and sell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2B Exchanges: commerce with vertical market and product-specific expert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dustry-sponsored Exchanges: approved vendors can work with the purchase department of the buy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Exchanges: "private" or "captive"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1B7-AD8F-4DEB-85C7-B170196F94B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commerce Servi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ervice consists of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spectiv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cting a sell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and gene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les and fulfil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rvice an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commerce service to be success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and features of products should be transpar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ppliers who can supp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a wide range of value-added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FED-3BEB-459E-9E77-352D1A5AA85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commerce servic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o create USP in ecommerce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comparative online information for e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Internet auctions facil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ive Business to Business (B2B)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stry specific ecommerce sites (in some ca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ured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exchan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529-5E69-4793-B8BE-0693953E848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commerce and customer satisfact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satisfaction comes because of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ifts information power from seller to buy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provided in sharing inform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courage repeat purchase from returning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ase the number of competitor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se price differen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ow buyers to pool their buying power against sel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839-E21C-4202-8251-F6FCDDC722B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03T11:09:25Z</dcterms:modified>
  <cp:revision>394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